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3F45F-8994-48AA-A902-42F11FBE8D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5280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2755B-35C8-488C-A2D4-0202102387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280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5280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7D545-8DEA-46D4-8244-4E6F7D8226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5280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5280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5280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BB5A8-2501-45F0-B1C7-66EDEFD829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9B9B1-7B44-4947-95A8-A14516456AE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67399-5690-456D-89A3-712068E3463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9E4AC-7241-4220-88CD-370DF72606E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6B833-C74A-4812-994C-71A88176DB0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05066-5071-40E4-8ADF-4865ABCC6AF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04920"/>
            <a:ext cx="8229600" cy="77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61ABE-2934-4EF2-A407-34797F99849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5280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8567E-4709-4F58-9119-B568356445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6605B-C26D-48AE-9BE1-8AC05A74FF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5280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9FD30-685D-40A4-A888-C4EDDF9954F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5280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B9BFE-AA2D-45A3-999B-B5506DE2E6A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5280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5B2C7-233B-434D-B660-493191F36EC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5280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5280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0BA40-DA09-4FD2-8198-9E9667E955A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5280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5280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5280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8F5E8-69F0-4663-8E99-49751085E4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CADA0-4809-45A7-A86B-71779BABB5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6AC27-54C2-41BC-B25E-175B0DB8B2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55501-C368-4539-A473-471207A3A7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304920"/>
            <a:ext cx="8229600" cy="77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36196-2D44-4F2D-BF82-0570BC7035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5280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C96E4-0A32-4219-8DDE-17F3420537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5280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BBD1D-E0E4-4B6F-B577-DB1DBE02F4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5280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7EEA5-0D2A-4BCE-8C5C-4E37F8CB07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459560" y="6388200"/>
            <a:ext cx="31752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  <a:ea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BF211-7E7F-48FE-9135-975F9D108396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spcBef>
                <a:spcPts val="700"/>
              </a:spcBef>
              <a:buClr>
                <a:srgbClr val="00007d"/>
              </a:buClr>
              <a:buSzPct val="63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8280" indent="-228600">
              <a:spcBef>
                <a:spcPts val="700"/>
              </a:spcBef>
              <a:buClr>
                <a:srgbClr val="9999cc"/>
              </a:buClr>
              <a:buSzPct val="68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0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3" name=""/>
              <p:cNvSpPr/>
              <p:nvPr/>
            </p:nvSpPr>
            <p:spPr>
              <a:xfrm>
                <a:off x="573120" y="3582720"/>
                <a:ext cx="576360" cy="6415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141560" y="3582720"/>
                <a:ext cx="583920" cy="6415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sldNum" idx="2"/>
          </p:nvPr>
        </p:nvSpPr>
        <p:spPr>
          <a:xfrm>
            <a:off x="7459560" y="6388200"/>
            <a:ext cx="31752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  <a:ea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65F1E-4551-4CC1-99E4-37AC65B6B8E3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2971800" y="1600200"/>
            <a:ext cx="6019920" cy="2666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body"/>
          </p:nvPr>
        </p:nvSpPr>
        <p:spPr>
          <a:xfrm>
            <a:off x="2971800" y="4266720"/>
            <a:ext cx="6019920" cy="2590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58000"/>
          </a:bodyPr>
          <a:p>
            <a:pPr marL="226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22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22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22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2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2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2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highbeam.com/doc/1G1-155041084.html" TargetMode="External"/><Relationship Id="rId2" Type="http://schemas.openxmlformats.org/officeDocument/2006/relationships/hyperlink" Target="http://www.routledge.com/books/details/9780415493468/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nytimes.com/roomfordebate/2010/12/12/stress-and-the-high-school-student/homeworks-diminishing-returnssafsfsfasf" TargetMode="External"/><Relationship Id="rId2" Type="http://schemas.openxmlformats.org/officeDocument/2006/relationships/hyperlink" Target="http://ehis.ebscohost.com.ez-proxy.brooklyn.cuny.edu:2048/ehost/detail?sid=3bdcd655-4395-4aee-9065-e77bc5ff288e@sessionmgr4&amp;vid=1&amp;hid=3&amp;bdata=JnNpdGU9ZWhvc3QtbGl2ZQ==" TargetMode="External"/><Relationship Id="rId3" Type="http://schemas.openxmlformats.org/officeDocument/2006/relationships/hyperlink" Target="http://ehis.ebscohost.com.ez-proxy.brooklyn.cuny.edu:2048/ehost/detail?sid=8b90dfbe-3df9-4919-a310-b1b12889ed74@sessionmgr112&amp;vid=1&amp;hid=124&amp;bdata=JnNpdGU9ZWhvc3QtbGl2ZQ==" TargetMode="External"/><Relationship Id="rId4" Type="http://schemas.openxmlformats.org/officeDocument/2006/relationships/hyperlink" Target="http://www.highbeam.com/doc/1G1-155041084.html" TargetMode="External"/><Relationship Id="rId5" Type="http://schemas.openxmlformats.org/officeDocument/2006/relationships/hyperlink" Target="http://www.routledge.com/books/details/9780415493468/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4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5664240" y="4622760"/>
            <a:ext cx="3619440" cy="23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8d"/>
                </a:solidFill>
                <a:latin typeface="American Typewriter"/>
                <a:ea typeface="American Typewriter"/>
              </a:rPr>
              <a:t>Lauren P. Bur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8d"/>
                </a:solidFill>
                <a:latin typeface="American Typewriter"/>
                <a:ea typeface="American Typewriter"/>
              </a:rPr>
              <a:t>CBSE 7201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8d"/>
                </a:solidFill>
                <a:latin typeface="American Typewriter"/>
                <a:ea typeface="American Typewriter"/>
              </a:rPr>
              <a:t>Seminar in Applied Theory and Research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8d"/>
                </a:solidFill>
                <a:latin typeface="American Typewriter"/>
                <a:ea typeface="American Typewriter"/>
              </a:rPr>
              <a:t>Fall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660240"/>
            <a:ext cx="919476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8d"/>
                </a:solidFill>
                <a:latin typeface="American Typewriter"/>
                <a:ea typeface="American Typewriter"/>
              </a:rPr>
              <a:t>Homework Support for Twice-Exceptional Student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12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39680" y="296640"/>
            <a:ext cx="7647120" cy="9982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600cc"/>
                </a:solidFill>
                <a:uFillTx/>
                <a:latin typeface="Arial"/>
              </a:rPr>
              <a:t>References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82320"/>
            <a:ext cx="8344080" cy="54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marL="371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llowell, E., &amp; Ratey, J. (2011)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Driven to distraction: Recognizing and coping with attention deficit disord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Anch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ghes, P. (2012). An autoethnographic approach to understanding asperger's syndrome: A personal exploration of self-identity through reflexive narratives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British journal of learning disabilit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4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, 94-1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ckson, P., Skirrow, P., &amp; Hare, D. (2012). Asperger through the looking glass: An exploratory study of self-understanding in people with asperger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Journal of autism &amp; developmental disorde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4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), 687-70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weler, S., Barnes-Robinson, L., Shevitz, B., &amp; Weinfeld, R. D. (2008). Bordering on excellence: a teaching tool for twice-exceptional students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Gifted child toda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3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, 40-4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hn, A. (2007)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The homework myth: why our kids get too much of a bad th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Da Capo Pr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wandowski, L. (2009). Gifted students with learning disabilities: Who are they?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Journal of learning disabilit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39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6), 515 -27. Retrieved from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http://www.highbeam.com/doc/1G1-155041084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ugy, R., DeRuvo, S., &amp; Rosenthal, D. (2007). Recognizing ADHD: primary symptoms and common impairments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Teaching young children with ADHD: Successful strategies and practical interventions for prek-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p. 22-24). Thousand Oaks, CA: Corwin Pr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on, S., Swift, M., &amp; Shallenberger, A. (2002). Perceptions of a self-contained class for fourth and fifth-grade students with high to extreme levels of intellectual giftedness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Gifted child quarte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4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6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zonoff, S., Dawson, G., &amp; McPartland, J. (2002)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A parent’s guide to asperger syndrome and high-functioning autis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(1 ed.). The Guilford Pr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k, L., Sofronoff, K., Sheffield, J., White, A., &amp; Kelly, A. (2012). Co-occurring anger in young people with asperger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Journal of clinical psycholog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6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0), 1142-114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inson, W., &amp; Campbell, J. (2010)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Effective teaching in gifted education: Using a whole school approa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New York: Routledge. Retrieved from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http://www.routledge.com/books/details/9780415493468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ywitz, S. (2005)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Overcoming dyslexia: A new and complete science-based program for reading problems at any lev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(1st ed.). Vint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wart, K. (2007)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Helping a child with nonverbal learning disorder or asperger’s disord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(2 ed.). New Harbinger Public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garman, A. (2011). Psychoanalyzing a vulcan: The importance of mental organization in treating asperger's patients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Psychoanalytic inquir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3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, 222-23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rell, F., Gabelko, N., Roth, D., &amp; Samuels, L. (1999). Parents' reports on homework amount and problems in academically talented elementary students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Gifted child quarte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4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8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ssel, N., Prater, M., &amp; Smith, D. (2010). How can such a smart kid not get it? finding the right fit for twice-exceptional students in our schools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Gifted child toda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3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, 55-6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24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39680" y="296640"/>
            <a:ext cx="7647120" cy="9982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600cc"/>
                </a:solidFill>
                <a:uFillTx/>
                <a:latin typeface="Arial"/>
              </a:rPr>
              <a:t>References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82320"/>
            <a:ext cx="8344080" cy="54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inson, W., &amp; Campbell, J. (2010)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Effective teaching in gifted education: Using a whole school approa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New York: Routledge. Retrieved from </a:t>
            </a:r>
            <a:r>
              <a:rPr b="0" lang="en-US" sz="1200" spc="-1" strike="noStrike" u="sng">
                <a:solidFill>
                  <a:srgbClr val="000080"/>
                </a:solidFill>
                <a:uFillTx/>
                <a:latin typeface="Times New Roman"/>
                <a:ea typeface="Times New Roman"/>
              </a:rPr>
              <a:t>http://www.routledge.com/books/details/9780415493468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ywitz, S. (2005)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Overcoming dyslexia: A new and complete science-based program for reading problems at any lev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(1st ed.). Vint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wart, K. (2007)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Helping a child with nonverbal learning disorder or asperger’s disord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(2 ed.). New Harbinger Public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garman, A. (2011). Psychoanalyzing a vulcan: The importance of mental organization in treating asperger's patients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Psychoanalytic inquir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3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, 222-23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rell, F., Gabelko, N., Roth, D., &amp; Samuels, L. (1999). Parents' reports on homework amount and problems in academically talented elementary students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Gifted child quarte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4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8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ssel, N., Prater, M., &amp; Smith, D. (2010). How can such a smart kid not get it? finding the right fit for twice-exceptional students in our schools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Gifted child toda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3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, 55-6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825480" y="469800"/>
            <a:ext cx="7507440" cy="97156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7459560" y="6388200"/>
            <a:ext cx="31752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6C41E-4691-4882-8EFC-1A8F91721D74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38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457200" y="806400"/>
            <a:ext cx="8242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6600cc"/>
                </a:solidFill>
                <a:uFillTx/>
                <a:latin typeface="American Typewriter"/>
                <a:ea typeface="American Typewriter"/>
              </a:rPr>
              <a:t>Appendix A: Parent Consent Form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039680" y="582480"/>
            <a:ext cx="7086600" cy="91710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7459560" y="6388200"/>
            <a:ext cx="31752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64A83-F3AA-4E8C-90D6-E92CC2391274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1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457200" y="844560"/>
            <a:ext cx="82422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6600cc"/>
                </a:solidFill>
                <a:uFillTx/>
                <a:latin typeface="American Typewriter"/>
                <a:ea typeface="American Typewriter"/>
              </a:rPr>
              <a:t>Appendix B: Head of School Consent Fo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62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444600" y="425520"/>
            <a:ext cx="82422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6600cc"/>
                </a:solidFill>
                <a:uFillTx/>
                <a:latin typeface="American Typewriter"/>
                <a:ea typeface="American Typewriter"/>
              </a:rPr>
              <a:t>Appendix C: Surve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96880" y="1257480"/>
            <a:ext cx="7861320" cy="51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Survey in development. Below are the statements students will mark with an </a:t>
            </a:r>
            <a:r>
              <a:rPr b="0" lang="en-US" sz="24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a, s or n</a:t>
            </a:r>
            <a:r>
              <a:rPr b="0" lang="en-US" sz="24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 to represe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always, sometimes or ne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(a) always                      (s) sometimes                         (n) n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Homework is a challenge for 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At home, I get started on my work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I submit homework on time on Mond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My parents help me make homework a rout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When I do homework and have a question, I ask for hel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I complete homework with 100% accura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I get started on my work independently at h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Homework is f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For me, homework is eas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I make homework a rout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74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571680" y="546120"/>
            <a:ext cx="82422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00cc"/>
                </a:solidFill>
                <a:uFillTx/>
                <a:latin typeface="American Typewriter"/>
                <a:ea typeface="American Typewriter"/>
              </a:rPr>
              <a:t>Appendix D: Current Time Management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-228600" y="977760"/>
            <a:ext cx="9296280" cy="568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86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444600" y="469800"/>
            <a:ext cx="82422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00cc"/>
                </a:solidFill>
                <a:uFillTx/>
                <a:latin typeface="American Typewriter"/>
                <a:ea typeface="American Typewriter"/>
              </a:rPr>
              <a:t>Appendix E: Proposed Time Management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203040" y="1219320"/>
          <a:ext cx="8712360" cy="5244840"/>
        </p:xfrm>
        <a:graphic>
          <a:graphicData uri="http://schemas.openxmlformats.org/drawingml/2006/table">
            <a:tbl>
              <a:tblPr/>
              <a:tblGrid>
                <a:gridCol w="1468080"/>
                <a:gridCol w="1434600"/>
                <a:gridCol w="1452600"/>
                <a:gridCol w="1452240"/>
                <a:gridCol w="1452240"/>
                <a:gridCol w="1452600"/>
              </a:tblGrid>
              <a:tr h="684000"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Bold"/>
                          <a:ea typeface="Times New Roman Bold"/>
                        </a:rPr>
                        <a:t>Subj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3b2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Bold"/>
                          <a:ea typeface="Times New Roman Bold"/>
                        </a:rPr>
                        <a:t>Mon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3b2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Bold"/>
                          <a:ea typeface="Times New Roman Bold"/>
                        </a:rPr>
                        <a:t>Tues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3b2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Bold"/>
                          <a:ea typeface="Times New Roman Bold"/>
                        </a:rPr>
                        <a:t>We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3b2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Bold"/>
                          <a:ea typeface="Times New Roman Bold"/>
                        </a:rPr>
                        <a:t>Thur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3b2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Bold"/>
                          <a:ea typeface="Times New Roman Bold"/>
                        </a:rPr>
                        <a:t>Fri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3b2"/>
                    </a:solidFill>
                  </a:tcPr>
                </a:tc>
              </a:tr>
              <a:tr h="1136520">
                <a:tc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ctr" pos="4343400"/>
                          <a:tab algn="ctr" pos="5029200"/>
                          <a:tab algn="ctr" pos="5715000"/>
                          <a:tab algn="ctr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b132"/>
                          </a:solidFill>
                          <a:latin typeface="Times New Roman"/>
                          <a:ea typeface="Times New Roman"/>
                        </a:rPr>
                        <a:t>Scie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are </a:t>
                      </a:r>
                      <a:r>
                        <a:rPr b="0" lang="en-US" sz="1200" spc="-1" strike="noStrike">
                          <a:solidFill>
                            <a:srgbClr val="66b132"/>
                          </a:solidFill>
                          <a:latin typeface="Times New Roman"/>
                          <a:ea typeface="Times New Roman"/>
                        </a:rPr>
                        <a:t>PH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earch </a:t>
                      </a:r>
                      <a:r>
                        <a:rPr b="0" lang="en-US" sz="1200" spc="-1" strike="noStrike">
                          <a:solidFill>
                            <a:srgbClr val="66b132"/>
                          </a:solidFill>
                          <a:latin typeface="Times New Roman"/>
                          <a:ea typeface="Times New Roman"/>
                        </a:rPr>
                        <a:t>Brahe Kepl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earch and write  </a:t>
                      </a:r>
                      <a:r>
                        <a:rPr b="0" lang="en-US" sz="1200" spc="-1" strike="noStrike">
                          <a:solidFill>
                            <a:srgbClr val="558e28"/>
                          </a:solidFill>
                          <a:latin typeface="Times New Roman"/>
                          <a:ea typeface="Times New Roman"/>
                        </a:rPr>
                        <a:t>Brahe Kepl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58e28"/>
                          </a:solidFill>
                          <a:latin typeface="Times New Roman"/>
                          <a:ea typeface="Times New Roman"/>
                        </a:rPr>
                        <a:t>Brahe Kepler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graph   15 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nd and print a </a:t>
                      </a:r>
                      <a:r>
                        <a:rPr b="0" lang="en-US" sz="1200" spc="-1" strike="noStrike">
                          <a:solidFill>
                            <a:srgbClr val="66b132"/>
                          </a:solidFill>
                          <a:latin typeface="Times New Roman"/>
                          <a:ea typeface="Times New Roman"/>
                        </a:rPr>
                        <a:t>tide cha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2840">
                <a:tc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ctr" pos="4343400"/>
                          <a:tab algn="ctr" pos="5029200"/>
                          <a:tab algn="ctr" pos="5715000"/>
                          <a:tab algn="ctr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2712"/>
                          </a:solidFill>
                          <a:latin typeface="Times New Roman"/>
                          <a:ea typeface="Times New Roman"/>
                        </a:rPr>
                        <a:t>Read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ad  </a:t>
                      </a:r>
                      <a:r>
                        <a:rPr b="0" lang="en-US" sz="1200" spc="-1" strike="noStrike">
                          <a:solidFill>
                            <a:srgbClr val="d90b00"/>
                          </a:solidFill>
                          <a:latin typeface="Times New Roman Italic"/>
                          <a:ea typeface="Times New Roman Italic"/>
                        </a:rPr>
                        <a:t>Matil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ad  </a:t>
                      </a:r>
                      <a:r>
                        <a:rPr b="0" lang="en-US" sz="1200" spc="-1" strike="noStrike">
                          <a:solidFill>
                            <a:srgbClr val="d90b00"/>
                          </a:solidFill>
                          <a:latin typeface="Times New Roman Italic"/>
                          <a:ea typeface="Times New Roman Italic"/>
                        </a:rPr>
                        <a:t>Matil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ad  </a:t>
                      </a:r>
                      <a:r>
                        <a:rPr b="0" lang="en-US" sz="1200" spc="-1" strike="noStrike">
                          <a:solidFill>
                            <a:srgbClr val="d90b00"/>
                          </a:solidFill>
                          <a:latin typeface="Times New Roman Italic"/>
                          <a:ea typeface="Times New Roman Italic"/>
                        </a:rPr>
                        <a:t>Matil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ad  </a:t>
                      </a:r>
                      <a:r>
                        <a:rPr b="0" lang="en-US" sz="1200" spc="-1" strike="noStrike">
                          <a:solidFill>
                            <a:srgbClr val="d90b00"/>
                          </a:solidFill>
                          <a:latin typeface="Times New Roman Italic"/>
                          <a:ea typeface="Times New Roman Italic"/>
                        </a:rPr>
                        <a:t>Matil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ad  </a:t>
                      </a:r>
                      <a:r>
                        <a:rPr b="0" lang="en-US" sz="1200" spc="-1" strike="noStrike">
                          <a:solidFill>
                            <a:srgbClr val="d90b00"/>
                          </a:solidFill>
                          <a:latin typeface="Times New Roman Italic"/>
                          <a:ea typeface="Times New Roman Italic"/>
                        </a:rPr>
                        <a:t>Matil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ctr" pos="4343400"/>
                          <a:tab algn="ctr" pos="5029200"/>
                          <a:tab algn="ctr" pos="5715000"/>
                          <a:tab algn="ctr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d9a00"/>
                          </a:solidFill>
                          <a:latin typeface="Times New Roman"/>
                          <a:ea typeface="Times New Roman"/>
                        </a:rPr>
                        <a:t>Wri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d one idea to </a:t>
                      </a:r>
                      <a:r>
                        <a:rPr b="0" lang="en-US" sz="1200" spc="-1" strike="noStrike">
                          <a:solidFill>
                            <a:srgbClr val="fcbd00"/>
                          </a:solidFill>
                          <a:latin typeface="Times New Roman"/>
                          <a:ea typeface="Times New Roman"/>
                        </a:rPr>
                        <a:t>Idea Bo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d one idea to </a:t>
                      </a:r>
                      <a:r>
                        <a:rPr b="0" lang="en-US" sz="1200" spc="-1" strike="noStrike">
                          <a:solidFill>
                            <a:srgbClr val="fcbd00"/>
                          </a:solidFill>
                          <a:latin typeface="Times New Roman"/>
                          <a:ea typeface="Times New Roman"/>
                        </a:rPr>
                        <a:t>Idea Bo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8800">
                <a:tc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ctr" pos="4343400"/>
                          <a:tab algn="ctr" pos="5029200"/>
                          <a:tab algn="ctr" pos="5715000"/>
                          <a:tab algn="ctr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Times New Roman"/>
                          <a:ea typeface="Times New Roman"/>
                        </a:rPr>
                        <a:t>Mathemat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Times New Roman"/>
                          <a:ea typeface="Times New Roman"/>
                        </a:rPr>
                        <a:t>ma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ack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Times New Roman"/>
                          <a:ea typeface="Times New Roman"/>
                        </a:rPr>
                        <a:t>ma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ack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Times New Roman"/>
                          <a:ea typeface="Times New Roman"/>
                        </a:rPr>
                        <a:t>ma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ack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dcc"/>
                          </a:solidFill>
                          <a:latin typeface="Times New Roman"/>
                          <a:ea typeface="Times New Roman"/>
                        </a:rPr>
                        <a:t>ma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ack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6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60120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6600cc"/>
                </a:solidFill>
                <a:uFillTx/>
                <a:latin typeface="American Typewriter"/>
                <a:ea typeface="American Typewriter"/>
              </a:rPr>
              <a:t>Table of Conte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4600" y="2146320"/>
            <a:ext cx="824220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ment of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ment of the Hypo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 of Related Lit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ndix A - Parent Consent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ndix B - Head of School Consent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ndix C - Surv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ndix D - Current Time Management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ndix E - Proposed Time Management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778360" y="1460520"/>
            <a:ext cx="3111480" cy="232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9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60120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6600cc"/>
                </a:solidFill>
                <a:uFillTx/>
                <a:latin typeface="American Typewriter"/>
                <a:ea typeface="American Typewriter"/>
              </a:rPr>
              <a:t>Introduc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612800"/>
            <a:ext cx="82422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ice-exceptionality is underserved and hardly recognized in both the public and private school sectors. At The Lang School, we are serving a small population of dynamic young students eager to share their talents and interested in problem solving when learning challenges arise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467160" y="3251160"/>
            <a:ext cx="3695760" cy="27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2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60120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6600cc"/>
                </a:solidFill>
                <a:uFillTx/>
                <a:latin typeface="American Typewriter"/>
                <a:ea typeface="American Typewriter"/>
              </a:rPr>
              <a:t>Statement of the Proble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1612800"/>
            <a:ext cx="82422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rporating a double-sided time management graphic organizer as a cover page on weekly homework packets will motivate six elementary students for ten weeks at a twice exceptional, private, K-8 school in Battery Park, New York to complete homework accurately and submit homework on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052880" y="3378240"/>
            <a:ext cx="4597560" cy="34164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35040" y="4533840"/>
            <a:ext cx="342900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*Assignment pages with BLANK weekly calendars are the current norm in the C4/5 classroom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079960" y="3467160"/>
            <a:ext cx="3517920" cy="3162240"/>
          </a:xfrm>
          <a:prstGeom prst="rect">
            <a:avLst/>
          </a:prstGeom>
          <a:ln w="0">
            <a:noFill/>
          </a:ln>
        </p:spPr>
      </p:pic>
      <p:grpSp>
        <p:nvGrpSpPr>
          <p:cNvPr id="146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7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69800" y="1625760"/>
            <a:ext cx="819144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4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of a double-sided time management graphic organizer, the proposed tool being printed on the backside of existing weekly homework cover pages, implemented once per week over a ten week period will increase homework accuracy and submission timeli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666720"/>
            <a:ext cx="824220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6600cc"/>
                </a:solidFill>
                <a:uFillTx/>
                <a:latin typeface="American Typewriter"/>
                <a:ea typeface="American Typewriter"/>
              </a:rPr>
              <a:t>Research Hypothes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155600" y="1225440"/>
            <a:ext cx="2603520" cy="33782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762440" y="1878120"/>
            <a:ext cx="3568680" cy="4535280"/>
          </a:xfrm>
          <a:prstGeom prst="rect">
            <a:avLst/>
          </a:prstGeom>
          <a:ln w="0">
            <a:noFill/>
          </a:ln>
        </p:spPr>
      </p:pic>
      <p:grpSp>
        <p:nvGrpSpPr>
          <p:cNvPr id="160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61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457200" y="666720"/>
            <a:ext cx="824220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6600cc"/>
                </a:solidFill>
                <a:uFillTx/>
                <a:latin typeface="American Typewriter"/>
                <a:ea typeface="American Typewriter"/>
              </a:rPr>
              <a:t>Learning Disabl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4480" y="4457880"/>
            <a:ext cx="4254480" cy="22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Structured routines, repetition, sensory simplicity and graphic organizers are recommended for children on the spectrum and/or with ADH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allowell &amp; Ratey, 2011);  (Hughes, 2012);  (Jackson, Skirrow &amp; Hare, 2012); (Ozonoff, Dawson &amp; McPartland, 2002); (Quek, Sofronoff, Sheffield, White &amp; Kelly, 2012);  (Shaywitz, 2005); (Stewart, 2007); (Sugarman, 201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55680" y="3822840"/>
            <a:ext cx="2273400" cy="26668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6757920" y="2197080"/>
            <a:ext cx="2108160" cy="2666880"/>
          </a:xfrm>
          <a:prstGeom prst="rect">
            <a:avLst/>
          </a:prstGeom>
          <a:ln w="0">
            <a:noFill/>
          </a:ln>
        </p:spPr>
      </p:pic>
      <p:grpSp>
        <p:nvGrpSpPr>
          <p:cNvPr id="174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75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444600" y="469800"/>
            <a:ext cx="8242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6600cc"/>
                </a:solidFill>
                <a:uFillTx/>
                <a:latin typeface="American Typewriter"/>
                <a:ea typeface="American Typewriter"/>
              </a:rPr>
              <a:t>Gifted &amp; Talent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6600cc"/>
                </a:solidFill>
                <a:uFillTx/>
                <a:latin typeface="American Typewriter"/>
                <a:ea typeface="American Typewriter"/>
              </a:rPr>
              <a:t>Twice-Exceptional (2e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92440" y="2743200"/>
            <a:ext cx="40003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Strengths-based, hands-on and individualized academics recommende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erger, 2003); (Moon, Swift &amp; Shallenberger, 2002); (Robinson &amp; Campbell, 2010); (Amend, Schuler, Beaver-Gavin &amp; Beights, 2009); (Anonymous, 2006)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41413"/>
                </a:solidFill>
                <a:latin typeface="Times New Roman"/>
                <a:ea typeface="Times New Roman"/>
              </a:rPr>
              <a:t>(Assouline, Foley Nicpon, Colangelo, &amp; O’Brien, 2008)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aum, Cooper &amp; Neu, 2001); (Foley, Allmon, Sieck &amp; Stinson, 2011); (Jeweler, Barnes-Robinson, Shevitz &amp; Weinfeld, 2008); (Lewandowski, 2009); (Gilger &amp; Hynd, 2008); (Yssel, Prater &amp; Smith, 20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017720" y="2487600"/>
            <a:ext cx="6197400" cy="4191120"/>
          </a:xfrm>
          <a:prstGeom prst="rect">
            <a:avLst/>
          </a:prstGeom>
          <a:ln w="0">
            <a:noFill/>
          </a:ln>
        </p:spPr>
      </p:pic>
      <p:grpSp>
        <p:nvGrpSpPr>
          <p:cNvPr id="187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88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457200" y="666720"/>
            <a:ext cx="824220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6600cc"/>
                </a:solidFill>
                <a:uFillTx/>
                <a:latin typeface="American Typewriter"/>
                <a:ea typeface="American Typewriter"/>
              </a:rPr>
              <a:t>Executive Function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54160" y="1549440"/>
            <a:ext cx="8242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Explicit targeting of lagging cognitive skills/metacognitive processes coupled with goal setting is recommende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oper-Kahn &amp; Dietzel, 2008); (Lougy, DeRuvo &amp; Rosenthal, 2007); (Cooper, 2010); (Kohn, 2007); (Worrell, Gabelko, Roth &amp; Samuels, 199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0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39680" y="296640"/>
            <a:ext cx="7647120" cy="9982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600cc"/>
                </a:solidFill>
                <a:uFillTx/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282320"/>
            <a:ext cx="8344080" cy="54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9000"/>
          </a:bodyPr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end, E., Schuler, P., Beaver-Gavin, K., &amp; Beights, R. D. (2009). A unique challenge: Sorting out the difference between giftedness and asperger's disorder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Gifted child toda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3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), 57-6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onymous. (2006). Strategies that work for twice-exceptional students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Gifted child toda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29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, 200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uline, S., Foley Nicpon, M., Colangelo, N., &amp; O’Brien, M. (2008). How can gifted students also have a diagnosis of an autism spectrum disorder?. In S. Assouline (Ed.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The paradox of giftedness and autism packet of information for professionals (PIP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Iowa: The University of Iowa Belin-Blank Ce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um, S., Cooper, C., &amp; Neu, T. (2001). Dual differentiation: An approach for meeting the curricular needs of gifted students with learning disabilities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Psychology in the scho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3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), 477-49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rger, R. (2003)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An ethic of excellence: Building a culture of craftsmanship with studen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Heineman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per, H. (2010, December 12). Homework's diminishing returns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The new york times: The opinion pag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Retrieved from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http://www.nytimes.com/roomfordebate/2010/12/12/stress-and-the-high-school-student/homeworks-diminishing-retu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per-Kahn, J., &amp; Dietzel, L. (2008)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Late, lost, and unprepared: A parents' guide to helping children with executive function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(1 ed.). Bethesda, MD: Woodbine Ho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ey Nicpon, M., Allmon, A., Sieck, B., &amp; Stinson, R. D. (2011). Empirical investigation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ice-exceptionality: Where have we been and where are we going?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Gifted Child Quarte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5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, 3-17. Retrieved from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http://ehis.ebscohost.com.ez-proxy.brooklyn.cuny.edu:2048/ehost/detail?sid=3bdcd655-4395-4aee-9065-e77bc5ff288e@sessionmgr4&amp;vid=1&amp;hid=3&amp;bdata=JnNpdGU9ZWhvc3QtbGl2ZQ=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lger, J. W., &amp; Hynd, G. W. (2008). Neurodevelopmental variation as a framework for thin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out the twice exceptional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Roeper revi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3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), 214-228. Retrieved from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http://ehis.ebscohost.com.ez-proxy.brooklyn.cuny.edu:2048/ehost/detail?sid=8b90dfbe-3df9-4919-a310-b1b12889ed74@sessionmgr112&amp;vid=1&amp;hid=124&amp;bdata=JnNpdGU9ZWhvc3QtbGl2ZQ=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llowell, E., &amp; Ratey, J. (2011)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Driven to distraction: Recognizing and coping with attention deficit disord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Anch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ghes, P. (2012). An autoethnographic approach to understanding asperger's syndrome: A personal exploration of self-identity through reflexive narratives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British journal of learning disabilit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4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, 94-1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ckson, P., Skirrow, P., &amp; Hare, D. (2012). Asperger through the looking glass: An exploratory study of self-understanding in people with asperger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Journal of autism &amp; developmental disorde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4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), 687-70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weler, S., Barnes-Robinson, L., Shevitz, B., &amp; Weinfeld, R. D. (2008). Bordering on excellence: a teaching tool for twice-exceptional students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Gifted child toda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3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, 40-4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hn, A. (2007)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The homework myth: why our kids get too much of a bad th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Da Capo Pr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wandowski, L. (2009). Gifted students with learning disabilities: Who are they?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Journal of learning disabilit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39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6), 515 -27. Retrieved from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http://www.highbeam.com/doc/1G1-155041084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ugy, R., DeRuvo, S., &amp; Rosenthal, D. (2007). Recognizing ADHD: primary symptoms and common impairments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Teaching young children with ADHD: Successful strategies and practical interventions for prek-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p. 22-24). Thousand Oaks, CA: Corwin Pr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on, S., Swift, M., &amp; Shallenberger, A. (2002). Perceptions of a self-contained class for fourth and fifth-grade students with high to extreme levels of intellectual giftedness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Gifted child quarte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4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6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zonoff, S., Dawson, G., &amp; McPartland, J. (2002)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A parent’s guide to asperger syndrome and high-functioning autis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(1 ed.). The Guilford Pr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k, L., Sofronoff, K., Sheffield, J., White, A., &amp; Kelly, A. (2012). Co-occurring anger in young people with asperger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Journal of clinical psycholog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6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0), 1142-114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inson, W., &amp; Campbell, J. (2010)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Effective teaching in gifted education: Using a whole school approa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New York: Routledge. Retrieved from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/>
              </a:rPr>
              <a:t>http://www.routledge.com/books/details/9780415493468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ywitz, S. (2005)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Overcoming dyslexia: A new and complete science-based program for reading problems at any lev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(1st ed.). Vint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wart, K. (2007)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Helping a child with nonverbal learning disorder or asperger’s disord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(2 ed.). New Harbinger Public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garman, A. (2011). Psychoanalyzing a vulcan: The importance of mental organization in treating asperger's patients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Psychoanalytic inquir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3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, 222-23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rell, F., Gabelko, N., Roth, D., &amp; Samuels, L. (1999). Parents' reports on homework amount and problems in academically talented elementary students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Gifted child quarte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4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8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ssel, N., Prater, M., &amp; Smith, D. (2010). How can such a smart kid not get it? finding the right fit for twice-exceptional students in our schools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Gifted child toda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3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, 55-6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ill Ramakkan</dc:creator>
  <dc:description/>
  <dc:language>en-US</dc:language>
  <cp:lastModifiedBy/>
  <cp:revision>0</cp:revision>
  <dc:subject/>
  <dc:title>Helping Our ELL Students Succeed: Finding the Right Setting</dc:title>
</cp:coreProperties>
</file>